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FB9-BA4C-4ED3-85EB-10E639E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18D-E97A-4CA3-9E15-6B30C368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AD9-972E-41DB-80E4-77034298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AEE-712F-4C84-B2C8-8C2DC999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0E8-0A60-4C8C-B493-E25DC953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6025-CC20-4552-885A-3A72260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AC6-F021-4BD7-B21E-D77115D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048C-046C-42EE-85B8-E55DFCE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00B-5A5E-49B2-A434-E037F0B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93C3-D4EE-4D6F-8D34-5C3FEF6C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08E-B70F-4771-A5AF-DB6CDEB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CAC-8666-464F-A111-86362BF4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EF62-7729-412C-A5FF-ED87AF5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761-246C-43FB-80AD-A0B1A6B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16C-4D05-4266-92AD-3335AC58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C77-3B58-4EB4-A112-8AEE6CB7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1BEC-64DE-44FB-A791-9F7C4C89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DE4-DD52-45A5-9D6B-71FBDD1E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60A-4521-452D-B47B-F3A2731B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85B-BA1E-48C6-A7C9-6DDD7699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386-D9B9-42D3-AFA9-E97EB39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ED1-7B36-4308-B7F4-AA5D9E8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C1D-23B6-4D1C-BDF0-EF64912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D76-83E8-456E-A7E0-D8BFE2F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35F-8EF3-48CB-9027-64796731B3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018-23A1-4474-97C4-1FB5C56688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chem.csustan.edu/CHEM1102/IMAGES/honorlip.gi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819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Arial Black"/>
              </a:rPr>
              <a:t>BIOCHEMISTRY</a:t>
            </a:r>
            <a:endParaRPr b="0" lang="en-US" sz="66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IONIC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ccur when 1 or more electrons ar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RANSFER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rom one atom to another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tom loses an electron it is a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harg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tom gains an electron it is a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NEGATIV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harg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newly charged atoms are now called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ample: NaCl (SAL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nacltoon"/>
          <p:cNvPicPr/>
          <p:nvPr/>
        </p:nvPicPr>
        <p:blipFill>
          <a:blip r:embed="rId1"/>
          <a:stretch/>
        </p:blipFill>
        <p:spPr>
          <a:xfrm>
            <a:off x="259092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OVALENT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ccur when electrons ar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HA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by atom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new structures that result from covalent bonds are called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In general, the more chemical bonds a molecule has the more energy it conta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Picture 5" descr="two atoms holding hands"/>
          <p:cNvPicPr/>
          <p:nvPr/>
        </p:nvPicPr>
        <p:blipFill>
          <a:blip r:embed="rId1"/>
          <a:stretch/>
        </p:blipFill>
        <p:spPr>
          <a:xfrm>
            <a:off x="609480" y="5025960"/>
            <a:ext cx="2438640" cy="15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olysrtyrene chain"/>
          <p:cNvPicPr/>
          <p:nvPr/>
        </p:nvPicPr>
        <p:blipFill>
          <a:blip r:embed="rId2"/>
          <a:stretch/>
        </p:blipFill>
        <p:spPr>
          <a:xfrm>
            <a:off x="3467160" y="5222880"/>
            <a:ext cx="5295960" cy="1406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666880" y="4495680"/>
            <a:ext cx="327672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HARING IS CARING!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MIXTUR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ater is not always pure. It is often found as part of a mixtur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mixture is a material 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WO OR MORE ELEMENTS OR COMPOUNDS THAT ARE PHYSICALLY MIX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salt &amp; pepper mixed, sugar and sand –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an be easily separated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5" descr="You can separate iron from salt with a magnet"/>
          <p:cNvPicPr/>
          <p:nvPr/>
        </p:nvPicPr>
        <p:blipFill>
          <a:blip r:embed="rId1"/>
          <a:stretch/>
        </p:blipFill>
        <p:spPr>
          <a:xfrm>
            <a:off x="5334120" y="4343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Tap Water and Distilled Water"/>
          <p:cNvPicPr/>
          <p:nvPr/>
        </p:nvPicPr>
        <p:blipFill>
          <a:blip r:embed="rId2"/>
          <a:stretch/>
        </p:blipFill>
        <p:spPr>
          <a:xfrm>
            <a:off x="1028880" y="4829040"/>
            <a:ext cx="4076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SOLUTION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wo par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LUTE –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BSTANCE THAT IS BEING DISSOLVED (SUGAR / SAL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the substance in which the solute dissolv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terials that do not dissolve are known as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SPENSION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lood is the most common example of a suspension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ells &amp; other particles remain in suspension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FORMULA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chemical symbols and numbers that compose a compound ("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recip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"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Structural Formula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– Line drawings of the compound that shows the elements in proportion and how they are bonde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Molecular Formula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– the ACTUAL formula for a compou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1" name="Picture 4" descr="ethanol"/>
          <p:cNvPicPr/>
          <p:nvPr/>
        </p:nvPicPr>
        <p:blipFill>
          <a:blip r:embed="rId1"/>
          <a:stretch/>
        </p:blipFill>
        <p:spPr>
          <a:xfrm>
            <a:off x="6324480" y="5105520"/>
            <a:ext cx="2667240" cy="162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962520" y="5485320"/>
            <a:ext cx="21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ACIDS &amp; BAS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ids: always (almost) begin with "H" because of the excess of H+ ions (hydroge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lemon juice (6), stomach acid (1.5), acid rain (4.5), normal rain (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Facts about Aci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ids turn litmus paper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usually tast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OU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eat acids daily (coffee, vinegar,  soda,  spicy foods, etc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ACIDS &amp; BAS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: always (almost) end with -OH because of the excess of hydroxide ions (Oxygen &amp; Hydroge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oven cleaner, bleach, ammonia, sea water, blood, pure wa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Facts about Ba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 turn litmus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 usually feel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LIPPER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o touch and tast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ITTE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Neutralization Rea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cid reacts with a base to produce a salt and wate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9" name="Picture 5" descr="neutralization"/>
          <p:cNvPicPr/>
          <p:nvPr/>
        </p:nvPicPr>
        <p:blipFill>
          <a:blip r:embed="rId1"/>
          <a:stretch/>
        </p:blipFill>
        <p:spPr>
          <a:xfrm>
            <a:off x="2209680" y="2971800"/>
            <a:ext cx="5515200" cy="62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cl_naoh"/>
          <p:cNvPicPr/>
          <p:nvPr/>
        </p:nvPicPr>
        <p:blipFill>
          <a:blip r:embed="rId2"/>
          <a:stretch/>
        </p:blipFill>
        <p:spPr>
          <a:xfrm>
            <a:off x="380880" y="4384800"/>
            <a:ext cx="8458200" cy="796680"/>
          </a:xfrm>
          <a:prstGeom prst="rect">
            <a:avLst/>
          </a:prstGeom>
          <a:ln w="0">
            <a:noFill/>
          </a:ln>
        </p:spPr>
      </p:pic>
      <p:sp>
        <p:nvSpPr>
          <p:cNvPr id="141" name="Line 8"/>
          <p:cNvSpPr/>
          <p:nvPr/>
        </p:nvSpPr>
        <p:spPr>
          <a:xfrm flipH="1">
            <a:off x="1066680" y="3581280"/>
            <a:ext cx="137160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3124080" y="3581280"/>
            <a:ext cx="53352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791320" y="3581280"/>
            <a:ext cx="75960" cy="990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7162920" y="3581280"/>
            <a:ext cx="685800" cy="990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H SCALE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asures degree of substance alkalinity or acid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anges from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0 to 14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0 – 5 strong ac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6-7 neutr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8-14 strong b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7" name="Picture 5" descr="5393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STRY OF LIFE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Narrow"/>
              </a:rPr>
              <a:t>Element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: simplest form of a substance - cannot be broken down any further without changing what it i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Narrow"/>
              </a:rPr>
              <a:t>Atom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: the actual basic unit - composed of protons, neutrons, and electron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goal of the body is to mainta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OMEOSTASIS (neutrality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to do this when pH is concerned, we add weak acids &amp; bases to prevent sharp changes in pH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are called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UFF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And now for the Biochemistry portion of things….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124000" y="609480"/>
            <a:ext cx="55720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C COMPOUN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Line 5"/>
          <p:cNvSpPr/>
          <p:nvPr/>
        </p:nvSpPr>
        <p:spPr>
          <a:xfrm flipH="1">
            <a:off x="1523520" y="1905120"/>
            <a:ext cx="1295640" cy="12189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2666880" y="2057400"/>
            <a:ext cx="1524240" cy="3657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867280" y="1905120"/>
            <a:ext cx="0" cy="2819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6858000" y="1981080"/>
            <a:ext cx="990720" cy="137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80880" y="5867280"/>
            <a:ext cx="4581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BOHYDR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762120" y="3200400"/>
            <a:ext cx="168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I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WordArt 11"/>
          <p:cNvSpPr txBox="1"/>
          <p:nvPr/>
        </p:nvSpPr>
        <p:spPr>
          <a:xfrm>
            <a:off x="6477120" y="3429000"/>
            <a:ext cx="26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TEI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4800600" y="4952880"/>
            <a:ext cx="4010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CLEIC ACI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ARBOHYDRAT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ving things use carbohydrates as a key source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lants use carbohydrates for structure (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ELLULOS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 sugars and complex carbohydrates (starches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 the elements carbon, hydrogen, and oxygen (the hydrogen is in a 2:1 ratio to oxygen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Monosaccharides (simple sugars)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the formula C6 H12 O6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a single ring structur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glucose is an example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4" descr="glucose1"/>
          <p:cNvPicPr/>
          <p:nvPr/>
        </p:nvPicPr>
        <p:blipFill>
          <a:blip r:embed="rId1"/>
          <a:stretch/>
        </p:blipFill>
        <p:spPr>
          <a:xfrm>
            <a:off x="2971800" y="3341520"/>
            <a:ext cx="35053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isaccharides (double sugars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the formula C12 H22 O11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crose (table sugar) is an examp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Picture 4" descr="disaccharides1"/>
          <p:cNvPicPr/>
          <p:nvPr/>
        </p:nvPicPr>
        <p:blipFill>
          <a:blip r:embed="rId1"/>
          <a:stretch/>
        </p:blipFill>
        <p:spPr>
          <a:xfrm>
            <a:off x="1219320" y="2971800"/>
            <a:ext cx="693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olysaccharide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of three or more simple sugar un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lycogen - animal starch stored in liver &amp; muscl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ellulose - indigestible in humans - forms cell wal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ches - used as energy storag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4" descr="polysaccharide"/>
          <p:cNvPicPr/>
          <p:nvPr/>
        </p:nvPicPr>
        <p:blipFill>
          <a:blip r:embed="rId1"/>
          <a:srcRect l="0" t="0" r="0" b="19013"/>
          <a:stretch/>
        </p:blipFill>
        <p:spPr>
          <a:xfrm>
            <a:off x="914400" y="419112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1333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How are complex carbohydrates formed and broken down?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ehydration Synthesi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bining simple molecules to form a more complex one with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moval of wate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.  monosaccharide + monosaccharide ----&gt; disaccharide + wa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C6H12O6 + C6H12O6 ----&gt; C12H22O11 + H2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olysaccharides are formed from repeated dehydration syntheses of wat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re the stored extra sugars known as star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di2"/>
          <p:cNvPicPr/>
          <p:nvPr/>
        </p:nvPicPr>
        <p:blipFill>
          <a:blip r:embed="rId1"/>
          <a:stretch/>
        </p:blipFill>
        <p:spPr>
          <a:xfrm>
            <a:off x="1138320" y="852480"/>
            <a:ext cx="6867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THE ATOM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Just like cells are the basic unit of life, the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ATOM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is the basic unit of matter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y are very small. If placed side by side one million would stretch a distance of 1cm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atom is made up of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particles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66880" y="4419720"/>
          <a:ext cx="4229280" cy="2238120"/>
        </p:xfrm>
        <a:graphic>
          <a:graphicData uri="http://schemas.openxmlformats.org/drawingml/2006/table">
            <a:tbl>
              <a:tblPr/>
              <a:tblGrid>
                <a:gridCol w="2214720"/>
                <a:gridCol w="2014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artic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T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UT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LECT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ydrolysi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Addition of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WATER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to a compound to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SPLIT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it into smaller subunits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(also called chemical digestion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.  disaccharide + H2O ---&gt; monosaccharide + monosaccharid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12 H22 O11 + H2 O ---&gt; C6 H12 O6 + C6 H12 O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hydrolysis"/>
          <p:cNvPicPr/>
          <p:nvPr/>
        </p:nvPicPr>
        <p:blipFill>
          <a:blip r:embed="rId1"/>
          <a:stretch/>
        </p:blipFill>
        <p:spPr>
          <a:xfrm>
            <a:off x="2473200" y="0"/>
            <a:ext cx="419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Lipids (Fats)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ts, oils, waxes, stero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iefly function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ergy storage, protection, and insulati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 carbon, hydrogen, and oxygen but the H:O is not in a 2:1 ratio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nd to b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larg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molecules -- an example of a neutral lipid is below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4" descr="lipid1"/>
          <p:cNvPicPr/>
          <p:nvPr/>
        </p:nvPicPr>
        <p:blipFill>
          <a:blip r:embed="rId1"/>
          <a:stretch/>
        </p:blipFill>
        <p:spPr>
          <a:xfrm>
            <a:off x="4867200" y="4610160"/>
            <a:ext cx="4276800" cy="2247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onorli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5259240"/>
            <a:ext cx="2133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utral lipids are formed from the union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one glycerol molecule and 3 fatty ac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 fatty acids + glycerol ----&gt; neutral fat (lipid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ts -- found chiefly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animal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ils and waxes -- found chiefly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l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ils are liquid at room temperature, waxes are sol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pids along with proteins are key components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ell membra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eroids are special lipids used to build many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productive hormones and cholesterol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ROTEIN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 the elements carbon, hydrogen, oxygen, and nitroge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MANY amino acid subuni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is the arrangement of the amino acid that forms the primary structure of protein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basic amino acid form has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carboxyl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one end,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methyl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at only has one hydrogen in the middle, and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amino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he other end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tached to the methyl group is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R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aminoacid"/>
          <p:cNvPicPr/>
          <p:nvPr/>
        </p:nvPicPr>
        <p:blipFill>
          <a:blip r:embed="rId1"/>
          <a:stretch/>
        </p:blipFill>
        <p:spPr>
          <a:xfrm>
            <a:off x="228600" y="304920"/>
            <a:ext cx="4114800" cy="20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mino_acid"/>
          <p:cNvPicPr/>
          <p:nvPr/>
        </p:nvPicPr>
        <p:blipFill>
          <a:blip r:embed="rId2"/>
          <a:stretch/>
        </p:blipFill>
        <p:spPr>
          <a:xfrm>
            <a:off x="4751280" y="838080"/>
            <a:ext cx="3973680" cy="55054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33520" y="3276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 R GROUP IS ANY GROUP OF ATOMS – THIS CHANGES THE PROPERTIES OF THE PROTEIN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FUNCTIONAL GROUP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are certain groups of atoms that are frequently attached to the organic molecules we will be studying, and these are called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functional groups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are things like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hydrox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alcohol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carbon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aldehydes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 or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keto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66ccff"/>
                </a:solidFill>
                <a:latin typeface="Arial Narrow"/>
              </a:rPr>
              <a:t>carbox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66ccff"/>
                </a:solidFill>
                <a:latin typeface="Arial Narrow"/>
              </a:rPr>
              <a:t>carboxylic acid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mino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mi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chart of organic functional groups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Major Protein Fun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Growth and repair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Buffer -- helps keep body pH constant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ipeptide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from two amino acid subun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by the process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Dehydration Synthesis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mino acid + amino acid ----- dipeptide + wa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4" name="Picture 5" descr="dipeptide"/>
          <p:cNvPicPr/>
          <p:nvPr/>
        </p:nvPicPr>
        <p:blipFill>
          <a:blip r:embed="rId1"/>
          <a:stretch/>
        </p:blipFill>
        <p:spPr>
          <a:xfrm>
            <a:off x="2057400" y="3267000"/>
            <a:ext cx="5029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lectrons are not present within the atom, instead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HEY REVOLVE AROUND THE NUCELUS OF THE ATOM &amp; FORM THE ELECTRON CLOU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raw a helium atom. Indicate where the protons, neutrons and electrons ar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Oval 4"/>
          <p:cNvSpPr/>
          <p:nvPr/>
        </p:nvSpPr>
        <p:spPr>
          <a:xfrm>
            <a:off x="4419720" y="5105520"/>
            <a:ext cx="304560" cy="3045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Oval 5"/>
          <p:cNvSpPr/>
          <p:nvPr/>
        </p:nvSpPr>
        <p:spPr>
          <a:xfrm>
            <a:off x="4419720" y="5410080"/>
            <a:ext cx="30456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191120" y="5257800"/>
            <a:ext cx="30456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Oval 7"/>
          <p:cNvSpPr/>
          <p:nvPr/>
        </p:nvSpPr>
        <p:spPr>
          <a:xfrm>
            <a:off x="4648320" y="5257800"/>
            <a:ext cx="30456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352680" y="4267080"/>
            <a:ext cx="2438640" cy="23623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276720" y="5029200"/>
            <a:ext cx="304560" cy="3049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5562720" y="5638680"/>
            <a:ext cx="304560" cy="3049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791320" y="44798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T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051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UT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60020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LECT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4876920" y="47242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3352680" y="47242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Line 16"/>
          <p:cNvSpPr/>
          <p:nvPr/>
        </p:nvSpPr>
        <p:spPr>
          <a:xfrm flipV="1">
            <a:off x="2666880" y="52578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248520" y="5029200"/>
            <a:ext cx="2743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TOMIC # = 2 (PROTON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TOMIC MASS = 4 (PROTONS &amp; NEUTRON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ydrolysis of a dipeptide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eaking down of a dipeptide into amino aci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peptide + H2O ---&gt; aminoacid + amino ac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8" descr="hydrolysisdipeptide"/>
          <p:cNvPicPr/>
          <p:nvPr/>
        </p:nvPicPr>
        <p:blipFill>
          <a:blip r:embed="rId1"/>
          <a:srcRect l="0" t="0" r="0" b="17861"/>
          <a:stretch/>
        </p:blipFill>
        <p:spPr>
          <a:xfrm>
            <a:off x="380880" y="334008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olypeptide (protein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hree or mo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mino acids linked by synthesis reactio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amples of proteins includ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insulin, hemoglobin, and enzyme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There are an extremely large number of different protein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bases for variability include differences in the number, kinds and sequences of amino acids in the prote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NUCLEIC ACI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ll ce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NUCLEOTID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ore &amp; transmi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eredity/genetic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formati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ucleotides consist of 3 par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5-Carbon Sug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Phosphate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Nitrogenous B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Picture 5" descr="(Image of nucleic acid general structure)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5562720" y="3735360"/>
            <a:ext cx="35812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nucleotides"/>
          <p:cNvPicPr/>
          <p:nvPr/>
        </p:nvPicPr>
        <p:blipFill>
          <a:blip r:embed="rId1"/>
          <a:stretch/>
        </p:blipFill>
        <p:spPr>
          <a:xfrm>
            <a:off x="685800" y="203040"/>
            <a:ext cx="7848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DNA (deoxyribonucleic acid)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s the genetic code of instructions that direct a cell's behavior through the synthesis of prote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nd in the chromosomes of the nucleus (and a few other organelles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nuclei1"/>
          <p:cNvPicPr/>
          <p:nvPr/>
        </p:nvPicPr>
        <p:blipFill>
          <a:blip r:embed="rId1"/>
          <a:stretch/>
        </p:blipFill>
        <p:spPr>
          <a:xfrm>
            <a:off x="4078440" y="274320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RNA (ribonucleic acid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rects cellular protein synthesi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nd in ribosomes &amp; nucleoli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Picture 5" descr="what_is_rna1"/>
          <p:cNvPicPr/>
          <p:nvPr/>
        </p:nvPicPr>
        <p:blipFill>
          <a:blip r:embed="rId1"/>
          <a:stretch/>
        </p:blipFill>
        <p:spPr>
          <a:xfrm>
            <a:off x="2057400" y="2819520"/>
            <a:ext cx="4962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CAL REA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process tha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hang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ne set of chemicals into another set of chemica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elements or compounds that enter into a chemical re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elements or compounds that are produced in a chemical re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emical reactions always involve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reaking of bonds in react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formation of new bonds in product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n a reaction, energy is either TAKEN IN (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ENDOTHERM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or GIVEN OFF (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EXOTHERM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 Narrow"/>
              </a:rPr>
              <a:t>Can you think of an everyday example of each type of reaction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Enzymes and Enzyme Action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inorganic or organic substance which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peeds up the 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a chemical reaction without entering the reaction itself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zym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organic catalysts made of protei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enzyme names end in -as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zymes lower the energy needed to start a chemical reaction. (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activation energ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gin to be destroyed above 45øC. (above this temperature all proteins begin to be destroyed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It is thought that, in order for an enzyme to affect the rate of a reaction, the following events must take place.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enzyme must form a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temporary associ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with the substance or substances whose reaction rate it affects. These substances are known as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substrate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association between enzyme and substrate is thought to form a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lose physical associ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between the molecules and is called the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enzyme-substrate complex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ile the enzyme-substrate complex is formed, enzyme action takes place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on completion of the reaction, the enzyme and product(s)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separate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The enzyme molecule is now available to form additional complexes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ISOTOP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oms of the same element tha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AVE A DIFFERENT NUMBER OF NEUTR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me isotopes are radioactive. This means that their nuclei is unstable and will break down at a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ONSTANT 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ver tim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are several practical uses for radioactive isotope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CARBON DA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TRAC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KILL BACTERIA / CANCER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ow do enzymes work?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molecules upon which an enzyme ac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enzyme is shaped so that it can only lock up with a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pecific 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molecu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zy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bstrate -------------&gt; produ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"Lock and Key Theory"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ch enzyme is specific for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one and ONLY one 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one lock - one key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theory has many weaknesses, but it explains some basic things about enzyme fun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0" name="Picture 5" descr="image004"/>
          <p:cNvPicPr/>
          <p:nvPr/>
        </p:nvPicPr>
        <p:blipFill>
          <a:blip r:embed="rId1"/>
          <a:stretch/>
        </p:blipFill>
        <p:spPr>
          <a:xfrm>
            <a:off x="1295280" y="4191120"/>
            <a:ext cx="67057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Factors Influencing Rate of Enzyme Action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p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the optimum (best) in most living things is close to 7 (neutra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gh or low pH levels usually slow enzyme activ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ew enzymes (such as gastric protease) work best at a pH of about 2.0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2971800" y="4191120"/>
          <a:ext cx="320040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191120"/>
                    <a:ext cx="320040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strongly influences enzyme activity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um temperature for maximum enzyme function is usually about 35-40 C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actions proceed slowly below optimal temperatur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bove 45 C most enzymes are denatured (change in their shape so the enzyme active site no longer fits with the substrate and the enzyme can't functi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enztemp"/>
          <p:cNvPicPr/>
          <p:nvPr/>
        </p:nvPicPr>
        <p:blipFill>
          <a:blip r:embed="rId1"/>
          <a:stretch/>
        </p:blipFill>
        <p:spPr>
          <a:xfrm>
            <a:off x="609480" y="1941480"/>
            <a:ext cx="8001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Enzyme and Substrat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When there is a fixed amount of enzyme and an excess of substrate molecules -- the rate of reaction will increase to a point and then level off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OMPOU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ubstance formed by the chemical combination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2 or more eleme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 definite propor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water, salt, glucose, carbon dioxid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666880" y="39625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2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4038480" y="4762440"/>
            <a:ext cx="1143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aC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5638680" y="4191120"/>
            <a:ext cx="990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cell is a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COMPLEX CHEMICAL FACTORY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containing some of the same elements found in the nonliving environment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rbon (C),  hydrogen (H), oxygen (O), and nitrogen (N) are present in the greatest percent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TWO TYPES OF COMPOUNDS</a:t>
            </a: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rganic - Contain C, H, and O in some ratio (usually referred to as chemicals of life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66ff3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arbohydrates, Proteins, Lipids, Nucleic Aci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norganic - usually "support" life - no specific ratio of C, H, and 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66ff3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Water (H2O), Carbon Dioxide (CO2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CAL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hemical bonds hold the atoms in a molecule together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re are 2 types of chemical bonds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ION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COVAL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2:08:17Z</dcterms:created>
  <dc:creator>Christina Blanarovich</dc:creator>
  <dc:description/>
  <dc:language>en-US</dc:language>
  <cp:lastModifiedBy>owner</cp:lastModifiedBy>
  <dcterms:modified xsi:type="dcterms:W3CDTF">2015-08-04T15:29:34Z</dcterms:modified>
  <cp:revision>26</cp:revision>
  <dc:subject/>
  <dc:title>BIOCHEMI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